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567-70C3-4027-B32F-146B9DAE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DA7-3B6D-4C67-A451-5432FB5C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50C-ED61-4A58-A992-17CA324D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7490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277-829D-4C17-8BBA-62189C8D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474-C8D4-427B-A853-0B523C96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2D6-6BE9-4B20-A4F0-9A5EB828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40A3-F68A-4120-95F5-D20FEE39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A6F-17D2-4AB3-953B-99EB5A93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344-D832-4772-9002-2C39CD83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9B8-4D46-4FB0-A2F8-C94A36D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7490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610-EF5D-4C65-9054-5A8917A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7490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A4F-8110-47BD-927A-C0A1AB15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590400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590400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F5559-E9B1-433F-95FB-4052D38EA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HR-hoUK7nHo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826920"/>
            <a:ext cx="158904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lik 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37240" y="3500280"/>
            <a:ext cx="40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 u="sng">
                <a:solidFill>
                  <a:srgbClr val="ff950e"/>
                </a:solidFill>
                <a:uFillTx/>
                <a:latin typeface="Arial"/>
              </a:rPr>
              <a:t>UNDERGROUND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35880" y="39592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Numbe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 billions people depends of the underground wate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40% of the agriculture need underground water to the watering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underground water level have goes down of 3metres to 30me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619280"/>
            <a:ext cx="882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72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3073320"/>
            <a:ext cx="3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0000" y="2894040"/>
            <a:ext cx="5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72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720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Farmers must put on the wattering on the night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Farmers must use less pesticides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We need to polute less the atmosphere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o reduce the global warming --&gt; More rain ,less 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9966cc"/>
                </a:solidFill>
                <a:latin typeface="Arial"/>
              </a:rPr>
              <a:t>Hope you've enjoyed this presentatio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♥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For the search of the picture and the editing:</a:t>
            </a: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Antoine CHEVALI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For the presentation of the power point and the texts:</a:t>
            </a: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Juliette DELERUE</a:t>
            </a: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Anna JOUVEY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And the last personn of the group:</a:t>
            </a:r>
            <a:br>
              <a:rPr sz="2600"/>
            </a:br>
            <a:r>
              <a:rPr b="0" lang="en-US" sz="2400" spc="-1" strike="noStrike">
                <a:solidFill>
                  <a:srgbClr val="ff8080"/>
                </a:solidFill>
                <a:latin typeface="Arial"/>
              </a:rPr>
              <a:t>Lucas LARCHER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8080"/>
                </a:solidFill>
                <a:latin typeface="Arial"/>
              </a:rPr>
              <a:t>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79280"/>
            <a:ext cx="406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100" spc="-1" strike="noStrike">
                <a:solidFill>
                  <a:srgbClr val="c5000b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720360" cy="6472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7520"/>
            <a:ext cx="8915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4700b8"/>
                </a:solidFill>
                <a:latin typeface="Comic Sans MS"/>
              </a:rPr>
              <a:t>An underground water (from the grec "phrear" which means "well")</a:t>
            </a:r>
            <a:br>
              <a:rPr sz="2100"/>
            </a:br>
            <a:r>
              <a:rPr b="1" lang="en-US" sz="2100" spc="-1" strike="noStrike">
                <a:solidFill>
                  <a:srgbClr val="4700b8"/>
                </a:solidFill>
                <a:latin typeface="Comic Sans MS"/>
              </a:rPr>
              <a:t>          is a mass of water  in a crack of the underground,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4700b8"/>
                </a:solidFill>
                <a:latin typeface="Comic Sans MS"/>
              </a:rPr>
              <a:t>      It's the water which is the most exposed to the pollution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79280"/>
            <a:ext cx="936000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The water cycl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The impact of pesticides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The impact of the he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47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ff9966"/>
                </a:solidFill>
                <a:latin typeface="Arial"/>
              </a:rPr>
              <a:t>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The water cycle</a:t>
            </a:r>
            <a:br>
              <a:rPr sz="5400"/>
            </a:b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The impact of the heat</a:t>
            </a:r>
            <a:br>
              <a:rPr sz="5400"/>
            </a:b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The impact of pestic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• </a:t>
            </a:r>
            <a:r>
              <a:rPr b="0" lang="fr-FR" sz="5400" spc="-1" strike="noStrike">
                <a:solidFill>
                  <a:srgbClr val="ff9966"/>
                </a:solidFill>
                <a:latin typeface="Arial"/>
              </a:rPr>
              <a:t>Sol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3600360" cy="107964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he wat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un shines, the water evaporates and rises i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tmosphere. Water gets conden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 contact with the cold ai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becomes clouds. After when it's rain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come back on the hearth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goes into the crack of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ground. After we pump the underground water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Etc.</a:t>
            </a:r>
            <a:br>
              <a:rPr sz="2600"/>
            </a:b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&gt; Because of the farmer who sprinkle thei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weather it's ho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evaporates, so there's less wat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under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00720" y="2844720"/>
            <a:ext cx="181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20000" y="2879640"/>
            <a:ext cx="1810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720360" cy="6480000"/>
          </a:xfrm>
          <a:prstGeom prst="roundRect">
            <a:avLst>
              <a:gd name="adj" fmla="val 23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the farmers who use pesticides in their fields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water infiltrated in the ground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goes down into the crack, water is pollut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underground water is then less explo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